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E201-AA0B-427D-B7F0-2B4077F8E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9FBB-2FEA-4AF3-BA25-FC175856D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03D6-23BA-4B05-B991-5CCDAB3A9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8847-B74C-430A-A431-3EB344007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B08F-9DD9-4D49-B763-413B24DA0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C41F-E1FB-47CA-A2D6-2D0D3B7B6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E823C-FFC2-46B8-9B7A-FA4B87EC1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AB12C-5960-48F0-87FD-4443F81FE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4A9C-FA65-422A-A821-F5EE5EFC4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F0D4-0661-4518-8FF9-555AF9F51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DC1B-C3B0-48C9-95A7-1B5E95222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7D6FA-9E6D-4532-B8D7-D2BAFA0718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840DF-5A85-46C7-AA94-F8E1F9A8AF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2C800-DBA2-400B-9A1D-61B8D968EB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F2446-B24F-4ECC-B95A-AAECC37AAA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03B12-7EE6-462E-81E8-BBFD20A3ED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12AF-C253-4BB4-BAB4-119266770B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557D3-BB0F-4DDB-B125-E403F45B4E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9F0E3-DD8C-4103-9025-5A4C396D19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8516F-A5A9-48E5-8715-082ADF6FBB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D82C-7A34-407B-B312-525F10CA17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204B5-4054-49A5-B4AC-CE83F3C6A4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1EC4C-4094-49F3-9E6F-98A06DF8BE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46652-773E-471E-AE55-2725D6F88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29C65-66E8-459D-A913-022073F26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7297-9C11-4AFC-BB52-6F67DB77D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E521-3101-4654-82B1-42E4D131D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3EC0-A3AA-4745-B3D3-0A59FAA46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E968-4EFE-4DF6-82C3-A0764A2F9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9117-EA9D-462A-B093-AF20D4F9F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3D8D-CACA-495E-BDB3-F485151C5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624B-DA77-4825-85F2-482455061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80A0-64FA-4422-8743-FC6CE6FFD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3FA7-7C07-42CD-A329-5ACC4A63E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5519-7C76-4590-8460-5F457181B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93BA-A3A8-4274-8F09-F2840082A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6667-BEA4-4D09-AC87-A40266A8F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D70F-7486-4A94-AA6F-1247215D1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BE24-71F4-4018-8252-E6B83BD0B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093A-01D9-4915-81BB-BD771A0AF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B40D-B64D-4D5F-B1BA-0D5D11CF3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29E8-4B49-45C9-9999-27A186E9C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B01F-E663-4E97-A522-DC863690F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4617-19E2-4183-868A-24B8B8235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9520" y="928800"/>
            <a:ext cx="390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tra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46C1-2009-4477-887C-E3F95838E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6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8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B911-21A5-4C1A-A572-A717254C4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60B6-F7F5-4ABB-A0FE-B7D162E75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6F28-1DB2-421C-9412-33380D99F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6638-B72A-4B82-9FC6-09B99085D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E1FE-105C-429D-9E0F-0D4EC930D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BE6F-6017-4B0B-A9EA-58D728688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AFC5-73E0-441F-A637-38A731270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69BB-FA44-4251-B02D-C19E9B215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CB7C-4A81-4A41-866D-FE17C4F7F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528D-14C6-4513-8582-6243F474B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77F6-5FD8-4C5B-A3E5-1CDCD95BD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984A-3608-426E-923E-8B238ECC5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648000" y="4616280"/>
            <a:ext cx="2020320" cy="736200"/>
            <a:chOff x="648000" y="4616280"/>
            <a:chExt cx="2020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648000" y="5045400"/>
              <a:ext cx="2020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u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6880" y="4616280"/>
              <a:ext cx="105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u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A5B1-C97B-4947-A413-00113297D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D174-0B9F-413A-88FD-B10E11E98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EAAE-0DED-4EE3-8904-DE06FCD76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82F3-1ACD-43EB-8B31-1357FB731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03F1-0C18-41A0-A109-F72D807DF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480"/>
            <a:chOff x="3665520" y="5286240"/>
            <a:chExt cx="4780080" cy="40248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016600" y="538164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5A27-54F3-4D0F-9CBE-5C0871D34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423680" y="451944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1696-A928-4A61-917D-7E558033F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D550-4EF6-4618-ADEF-68EB7D830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FFBA-2C79-4E8A-A327-3277C70C9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E0B5-9F00-4084-8418-686D30BAA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548B-8BA1-4968-95D2-0C5DF8719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6BD8-90C3-4EA9-819C-A9D96DCEB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0ED6-D335-46E9-9BCC-EEB18CFAE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63DE-68BA-4C1C-BF12-96045B8D3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DD7E-26F9-4769-AC56-B19688B36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E118-D24D-443A-BF8B-CA9118FD6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8EB5-96A6-49A9-ACC8-E250BAEEC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549E-22DB-4ABE-8AD2-4DB9448B5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980D-9508-4231-8871-42AE821BC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418E-DFD5-432F-9213-A6C91A1F0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D645-1CDA-45F0-B56B-D07A51FD9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5978-14B7-4342-9EEC-BF82CC29E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9F56-ECE8-4047-9CD8-FAAF5C01E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E80F-1AA8-4E8B-8DB1-797FC9EE9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EB68-FCD0-49E6-9D81-362BE8D5D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9595-F696-417C-B013-90E8C628B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84F4-7E4A-4788-8039-83FC8E951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38E1-AB09-4899-A929-C23C92D15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EB1C-2EE5-435D-AC56-F42120E06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B4A8-CB5C-4684-9CE6-7DFDD69B8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0936-7E37-41F8-82CC-AE5FFE28E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91C4-E69D-4C05-BFF6-10746A344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47F4-AC82-47DE-AB8A-758F34C4E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F645-BFD3-43BA-80BC-46072C479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7428-42A1-4F40-A78F-94657F6A3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05C8-615D-4765-90D5-89A645358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3AA5-0C1F-45F6-9C83-44016CB5B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into(tlm_generic_payload&amp; other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6D99-696C-45D6-8191-AE4DC393A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2586-F585-46F3-BAC3-F96F12023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020F-519F-4978-AC87-F11B9B8A2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0009-99A3-4039-98E6-C5B27E066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81D7-E5AC-427B-A531-41BEAAE0D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D976-F14D-4077-8939-262F71189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6171-007F-45A8-90E2-D51AFAA19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993D-7C4D-47BA-ADFC-121D57717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C148-7030-43A5-9EF7-C20395DE3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1240-F6FF-42DD-B02E-0B50B265B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E1C7-A8B8-42CA-BC5B-0CB3D6422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D16A-4EF8-45AF-A3F7-E015495F1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B852-5BC2-4679-AB5F-4275481A5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8567-0634-486C-A746-EDB38D4A1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AEF5-6E54-414D-BF2F-D079B4ABE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304920" y="1279440"/>
            <a:ext cx="8510400" cy="4157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FE03-A3F4-492E-A36A-ED17CE98D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F6AB-2338-4749-BB55-6F1536F10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EFE8-F038-4F5C-A138-F72E1AE94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392040" y="857160"/>
            <a:ext cx="65210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new tlm_generic_payload( mem_mgr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A036-4770-465C-A721-DD837EAC7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1307-8F1F-4D2D-8865-BFE1A8D6B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3D72-9128-458B-8B3C-FC40D893D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4CE7-5D86-4DE1-8544-114DAA44F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96CF-47D0-4617-8C12-18AD721BD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6FFA-9701-4847-BE45-F66DB1BFE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0808-634E-4328-9788-648D9A744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4700-FA6A-4F01-9FCF-EC5CDE0AE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2310-B054-4C33-85B6-ABCF352A9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FC18-53A7-4F83-B5EE-5A0F53B3F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1B4C-D1B4-4F6A-97C7-82800C11C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6CE5-78EF-42D1-B79E-4C8697DA9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103B-8C1F-48C2-AF0A-C423A1EDD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5AC4-2524-495A-9E26-52F11F047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7F10-7EB7-429E-B069-90F4A6E2E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1A6F-F58D-43E2-B68B-49ADE96BA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12A4-C5C7-4B3A-856D-A62034DF1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F324-48FA-41CB-870F-2952BD327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7478-D8BF-4E2B-B9B1-9ADB1E8E8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 </cp:lastModifiedBy>
  <cp:lastPrinted>2002-03-05T00:56:29Z</cp:lastPrinted>
  <dcterms:modified xsi:type="dcterms:W3CDTF">2008-06-06T08:52:13Z</dcterms:modified>
  <cp:revision>1580</cp:revision>
  <dc:subject/>
  <dc:title>TLM WG Status 0703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0917829</vt:r8>
  </property>
  <property fmtid="{D5CDD505-2E9C-101B-9397-08002B2CF9AE}" pid="3" name="_AuthorEmail">
    <vt:lpwstr>bart@CoWare.com</vt:lpwstr>
  </property>
  <property fmtid="{D5CDD505-2E9C-101B-9397-08002B2CF9AE}" pid="4" name="_AuthorEmailDisplayName">
    <vt:lpwstr>Bart Vanthournout</vt:lpwstr>
  </property>
  <property fmtid="{D5CDD505-2E9C-101B-9397-08002B2CF9AE}" pid="5" name="_EmailSubject">
    <vt:lpwstr>TLM-2.0 Presentation ja6.ppt</vt:lpwstr>
  </property>
</Properties>
</file>