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3AC1-A2F5-429E-A6E3-B8F35DA97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5878-7FF6-43F7-9ACD-CD5EAD05A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688E-F953-4BE4-8D54-34C4EEBAF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C059-B132-4ED5-AC72-D2B3DC982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2A6D-43C0-4A34-962C-74C2E9CD9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DA766-0B86-4134-AAEF-924BC7AF8D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0D08F-F2F2-4D34-AA7D-859BAF048C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F2C56-64CD-4B8C-BF9C-5680E78878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5B06C-B199-4E7F-9883-CC6DEDB444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1ADE4-119A-47C0-8E8A-2538BD941F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F7233-CFCD-47D8-9582-136ED2FD6C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0F8D3-053C-479F-88D9-730241F2E3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EE548-33D6-463E-99AC-9F8FADD119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A49AB-BF9F-4784-A4D6-5BAF5C18BC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FD2C3-56E5-4326-8763-3D6740EA1F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8009B-8A90-42A7-9201-89F59019B7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7AD30-745D-484C-BD7E-FA91D06510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9B91-DDBB-4904-82E2-B0CED8255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-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71000" y="1027080"/>
            <a:ext cx="4937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starting new 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2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23200" y="1647720"/>
            <a:ext cx="5085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4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report.cpp: 4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4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bw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8-06-04T21:38:24Z</dcterms:modified>
  <cp:revision>84</cp:revision>
  <dc:subject/>
  <dc:title>AT Basic System Example</dc:title>
</cp:coreProperties>
</file>