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5277F-9565-4B0B-8D6F-C4977C61C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A80D1-B1B8-4C02-978B-ECEB0C8E1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AA24A-F8AE-4D15-B16C-608DCA4A4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4DDBF-FAA4-4670-983B-73B729958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6BA40-91F8-46CF-A73B-710589927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903A4-54E4-4B18-BC60-DD9F8A5F25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74ACF-C711-40CA-80AE-68107EABEA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FE2A2-4C65-48D2-A513-6E170ADF86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AF85E-7968-4991-A66D-161DD637AC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61B41-B01B-4DBF-A592-94F2AD8226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23E5C-90F6-4B40-9DD1-A69892149D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422E1-0C01-4511-BB6F-48697F809D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F6D5B-F99F-48DF-9A2D-3EFC0CB6F7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85E78-F788-467D-A433-3A9F554038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B8BB2-4AD5-4FB2-A684-EB36D4BB17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B187A-58BE-4F9F-B8F4-981F0C6213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91C7E-CEB0-4B6F-BDFA-67013337FB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C7C9B-9296-42DE-86DA-AD91D51747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757440" y="928800"/>
            <a:ext cx="75416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100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Charles Wilson</cp:lastModifiedBy>
  <dcterms:modified xsi:type="dcterms:W3CDTF">2008-06-02T13:26:47Z</dcterms:modified>
  <cp:revision>81</cp:revision>
  <dc:subject/>
  <dc:title>AT Basic System Example</dc:title>
</cp:coreProperties>
</file>