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1B09-7235-4B8B-871D-82F248D63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2D7F-F4DB-4D61-BAC4-786BA386A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769D-9D94-4CE1-8747-E5FCF683B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FDC8-E90A-4429-8161-84445AD46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939D-4D4B-4022-AE0C-0E84DDA90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FE25F-268F-4ABD-A098-D8B4BF975A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7A532-4E12-4F80-9CF2-1F3AB94DE8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24F33-C5E3-4E47-8DD7-AE671C8124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F5095-80FB-4FC7-8BFA-695E904AE4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77F7F-AA2C-4A9E-9F29-792911F7FE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144D4-7598-4D52-AA81-5515D266D5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7AC8E-C17F-4A82-BFB5-711DA36A92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A4BC2-CD5F-4D78-84E1-84712B4763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4A307-787E-4800-B512-F15685CEC0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C7941-AB65-4EE4-B3CC-2180F8ADDB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5F22B-DBB0-4ED2-A4A1-C327D0A18C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89F31-085A-4039-8AB7-81A344B379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CD30-E26A-48B8-8C29-E3BF28582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4T22:13:32Z</dcterms:modified>
  <cp:revision>84</cp:revision>
  <dc:subject/>
  <dc:title>AT Basic System Example</dc:title>
</cp:coreProperties>
</file>