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E390E-5155-4A58-9149-F7F204E4C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A0913-11A0-442A-A004-B005E08AE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AFC94-FA14-4802-A091-E78580B0E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2032F-21BF-43A1-84AD-89C9D5E1D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8AFB7-1B11-443A-B78D-E1F519FF56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B1F14-92E3-4B9D-A1AA-7A16FF4C96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048A8-719B-435D-8964-680F68755F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17606-D0B9-4C85-AB98-174EE8C68B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1666A-40EF-429D-8C3C-D492FD13AA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BF2A2-679B-48AE-9D62-69AA76375C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BC2F0-CA8E-4467-8257-BAF8ABEDDC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6A098-DE06-4D95-838C-6F3D3D7344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5BD9D-416D-4387-A84A-7F798928CA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163FC-7914-473F-BE83-415BFE5FF7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5B89B-9ECF-4D66-BD4F-51F7CAFD83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E610B-D397-4F9B-AFC0-74E901ACF9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6EC29-EEB9-4F52-A9E2-8F4A240650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Charles Wilson</cp:lastModifiedBy>
  <cp:lastPrinted>2008-06-04T21:47:01Z</cp:lastPrinted>
  <dcterms:modified xsi:type="dcterms:W3CDTF">2008-06-05T21:29:01Z</dcterms:modified>
  <cp:revision>86</cp:revision>
  <dc:subject/>
  <dc:title>AT Basic System Example</dc:title>
</cp:coreProperties>
</file>